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29.jpeg" ContentType="image/jpeg"/>
  <Override PartName="/ppt/media/image38.gif" ContentType="image/gif"/>
  <Override PartName="/ppt/media/image15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7F93-4E16-4577-BA99-0AEC68DA652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6B4-BD57-48E2-8AD8-7CFBF52266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gao tuber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81E-D9DE-47AE-8E04-4C9A00EFB74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249-871E-4632-B3C2-4D1FC3FA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652-C175-40BE-9B76-3BE86E7B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D7D-8919-4541-8E83-F2218CF1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75D-8F33-422A-974D-60D5D505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2E3-C11E-4EDA-ACF5-D3543DB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927-C41A-4427-9AFD-2BAEC7E1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929-B7A6-4E95-BBE9-B5D58F7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ED4-77EB-4992-9A42-31D4365C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38A-DB92-4856-BE94-AD38774B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00D-63AB-4982-A238-63592601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AE4-B82C-4A9E-A878-A1C053E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C4A-E13E-42A2-BFF8-4E705F74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413-F69E-4A3F-868B-898397B17810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Радиологија</a:t>
            </a:r>
            <a:br>
              <a:rPr sz="4000"/>
            </a:b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темпоромандибуларних</a:t>
            </a:r>
            <a:r>
              <a:rPr b="0" lang="sr-Latn-CS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зглобов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роф др Снежана Луки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2700360" y="549360"/>
          <a:ext cx="7192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719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агиб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адњег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и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36716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33</a:t>
            </a:r>
            <a:r>
              <a:rPr b="1" lang="sr-Latn-CS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вариј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20-55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492360" y="549360"/>
            <a:ext cx="5327640" cy="4005000"/>
            <a:chOff x="3492360" y="549360"/>
            <a:chExt cx="5327640" cy="400500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rcRect l="6332" t="41028" r="47931" b="28585"/>
            <a:stretch/>
          </p:blipFill>
          <p:spPr>
            <a:xfrm>
              <a:off x="3492360" y="549360"/>
              <a:ext cx="5327640" cy="400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92" name="Group 19"/>
            <p:cNvGrpSpPr/>
            <p:nvPr/>
          </p:nvGrpSpPr>
          <p:grpSpPr>
            <a:xfrm>
              <a:off x="3781440" y="1577520"/>
              <a:ext cx="3814920" cy="1419480"/>
              <a:chOff x="3781440" y="1577520"/>
              <a:chExt cx="3814920" cy="1419480"/>
            </a:xfrm>
          </p:grpSpPr>
          <p:sp>
            <p:nvSpPr>
              <p:cNvPr id="93" name="Line 5"/>
              <p:cNvSpPr/>
              <p:nvPr/>
            </p:nvSpPr>
            <p:spPr>
              <a:xfrm>
                <a:off x="3781440" y="2852640"/>
                <a:ext cx="3814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7"/>
              <p:cNvSpPr/>
              <p:nvPr/>
            </p:nvSpPr>
            <p:spPr>
              <a:xfrm flipV="1">
                <a:off x="4108320" y="1577520"/>
                <a:ext cx="2119320" cy="141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rc 16"/>
              <p:cNvSpPr/>
              <p:nvPr/>
            </p:nvSpPr>
            <p:spPr>
              <a:xfrm rot="1107000">
                <a:off x="5289480" y="2195280"/>
                <a:ext cx="576360" cy="565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127" y="0"/>
                    </a:moveTo>
                    <a:cubicBezTo>
                      <a:pt x="12007" y="70"/>
                      <a:pt x="21600" y="9720"/>
                      <a:pt x="21600" y="21600"/>
                    </a:cubicBezTo>
                  </a:path>
                  <a:path stroke="0" w="21600" h="21600">
                    <a:moveTo>
                      <a:pt x="127" y="0"/>
                    </a:moveTo>
                    <a:cubicBezTo>
                      <a:pt x="12007" y="70"/>
                      <a:pt x="21600" y="9720"/>
                      <a:pt x="21600" y="21600"/>
                    </a:cubicBezTo>
                    <a:lnTo>
                      <a:pt x="0" y="21600"/>
                    </a:lnTo>
                    <a:lnTo>
                      <a:pt x="127" y="0"/>
                    </a:lnTo>
                    <a:close/>
                  </a:path>
                </a:pathLst>
              </a:custGeom>
              <a:noFill/>
              <a:ln w="2844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" name="Rectangle 18"/>
          <p:cNvSpPr/>
          <p:nvPr/>
        </p:nvSpPr>
        <p:spPr>
          <a:xfrm>
            <a:off x="3870000" y="4869000"/>
            <a:ext cx="44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оризонтал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ој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еме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еме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нтеркондиларни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гао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1767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150</a:t>
            </a:r>
            <a:r>
              <a:rPr b="1" lang="sr-Latn-CS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39640" y="2924280"/>
            <a:ext cx="35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ксиј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н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теринцизалн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гит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аја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јистакнут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ачк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268880" cy="58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Line 10"/>
          <p:cNvSpPr/>
          <p:nvPr/>
        </p:nvSpPr>
        <p:spPr>
          <a:xfrm>
            <a:off x="4500720" y="3141720"/>
            <a:ext cx="237636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6227640" y="3357720"/>
            <a:ext cx="216072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516720" y="549360"/>
            <a:ext cx="73080" cy="532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rc 17"/>
          <p:cNvSpPr/>
          <p:nvPr/>
        </p:nvSpPr>
        <p:spPr>
          <a:xfrm rot="19603200">
            <a:off x="5724360" y="3357360"/>
            <a:ext cx="1584360" cy="1223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ужин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хо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мм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±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3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сублуксац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5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Луксац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8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рет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апитули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фронт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ауд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вр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туберкулу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ар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rcRect l="5572" t="0" r="0" b="0"/>
          <a:stretch/>
        </p:blipFill>
        <p:spPr>
          <a:xfrm>
            <a:off x="4932360" y="3284640"/>
            <a:ext cx="3311640" cy="31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3116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Line 13"/>
          <p:cNvSpPr/>
          <p:nvPr/>
        </p:nvSpPr>
        <p:spPr>
          <a:xfrm flipV="1">
            <a:off x="5651640" y="4292640"/>
            <a:ext cx="433080" cy="28872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5796000" y="1341000"/>
            <a:ext cx="433440" cy="28908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01560" y="1082520"/>
            <a:ext cx="540072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84720" y="2565000"/>
            <a:ext cx="30592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опла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илатера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опла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илатер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538164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Rectangle 1"/>
          <p:cNvSpPr/>
          <p:nvPr/>
        </p:nvSpPr>
        <p:spPr>
          <a:xfrm rot="20127600">
            <a:off x="5386680" y="1413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40072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84720" y="2565000"/>
            <a:ext cx="305928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ертроф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 rot="19756200">
            <a:off x="5472360" y="13413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Garamond"/>
              </a:rPr>
              <a:t>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Запаљењ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кутно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пиог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остра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редње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драж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ел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пе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граниче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суд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-3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иж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Gray311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286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84720" y="1184040"/>
            <a:ext cx="4392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остеомие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зур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скавиц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есорпциј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еактив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кле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фигу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правил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ж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ктив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26920" y="189000"/>
            <a:ext cx="324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8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26920" y="3429000"/>
            <a:ext cx="324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1"/>
          <p:cNvSpPr/>
          <p:nvPr/>
        </p:nvSpPr>
        <p:spPr>
          <a:xfrm>
            <a:off x="2247840" y="17002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947960" y="4863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траумат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зв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р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преза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жвакањ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п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ош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з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аб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раж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бјектив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гоб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м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дебља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мањ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ластичнос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чет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фо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формант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килоз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29527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29383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Rectangle 12"/>
          <p:cNvSpPr/>
          <p:nvPr/>
        </p:nvSpPr>
        <p:spPr>
          <a:xfrm>
            <a:off x="974520" y="5238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973800" y="59961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43280" y="1268280"/>
            <a:ext cx="4043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ртропатија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реуматоид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ртр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кутно: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онично: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ж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кило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с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фигу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диј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в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апр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"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мпримо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стер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убо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ос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rcRect l="55293" t="0" r="1341" b="0"/>
          <a:stretch/>
        </p:blipFill>
        <p:spPr>
          <a:xfrm>
            <a:off x="971640" y="549360"/>
            <a:ext cx="28796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9" descr=""/>
          <p:cNvPicPr/>
          <p:nvPr/>
        </p:nvPicPr>
        <p:blipFill>
          <a:blip r:embed="rId2"/>
          <a:srcRect l="2452" t="0" r="52841" b="0"/>
          <a:stretch/>
        </p:blipFill>
        <p:spPr>
          <a:xfrm>
            <a:off x="971640" y="3500280"/>
            <a:ext cx="287964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Луксациј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280" y="4221000"/>
            <a:ext cx="7715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о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рауматс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т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сулар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у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ртик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менз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рад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виј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драв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ан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бо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абитуал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широ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р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жа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зни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спр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576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8" descr="ishrana1"/>
          <p:cNvPicPr/>
          <p:nvPr/>
        </p:nvPicPr>
        <p:blipFill>
          <a:blip r:embed="rId2"/>
          <a:stretch/>
        </p:blipFill>
        <p:spPr>
          <a:xfrm>
            <a:off x="826920" y="2492280"/>
            <a:ext cx="1944720" cy="137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440" y="13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Снимак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темпоралних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костију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5572" t="0" r="0" b="0"/>
          <a:stretch/>
        </p:blipFill>
        <p:spPr>
          <a:xfrm>
            <a:off x="971640" y="3933720"/>
            <a:ext cx="259236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4240" y="1297080"/>
            <a:ext cx="41148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ch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ü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l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жећ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рз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кубит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фил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ентрални зр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на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прот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мпор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ндибулар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25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30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ауда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кошењ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Обавез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затворена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и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отворена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2560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227640" y="4842000"/>
            <a:ext cx="216072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1717560" cy="19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јек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з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фор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он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тер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сте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клуз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x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е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и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миненти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лок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289224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2879640" cy="28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ризмус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лаз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могућнос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арањ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зроц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пш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тан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ро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ихни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н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дул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блонга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макси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мандибу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донтоге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к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тонзи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арафаринге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легм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икаторних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ишић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C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е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y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4038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1934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а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доста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п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мећ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ртик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мен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ц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мећа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о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уш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ара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л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ег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ста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куп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мпто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лавобољ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уцкет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кљоц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уј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ши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апушено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в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емогућно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тварањ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атварањ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граничен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ет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андубул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тс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бриња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ногих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мпт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09564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е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ch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ndr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4830480" cy="27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зосто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териорн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ту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21891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362320" cy="26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2" name="Picture 3" descr="I Neurology 1"/>
          <p:cNvPicPr/>
          <p:nvPr/>
        </p:nvPicPr>
        <p:blipFill>
          <a:blip r:embed="rId2"/>
          <a:stretch/>
        </p:blipFill>
        <p:spPr>
          <a:xfrm>
            <a:off x="539640" y="3213000"/>
            <a:ext cx="2406600" cy="2667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3" name="Picture 4" descr="lopta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3995640" y="1052640"/>
            <a:ext cx="1079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ch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l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96072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240000" cy="33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4932360" y="4653000"/>
            <a:ext cx="3600360" cy="11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љ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ш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ои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v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1280" y="1268280"/>
            <a:ext cx="396072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264280" y="1268280"/>
            <a:ext cx="326844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4464000" cy="18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гменту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имп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Ма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96072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60036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4572000" y="5013360"/>
            <a:ext cx="457200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ои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ћел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бир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Темпоро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мандибуларни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зглоб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3428640"/>
            <a:ext cx="7777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јоптерећен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овечије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рганиз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ств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ст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м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икулаци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ог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бод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ећ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жиш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кл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мбрион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ласто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икулаци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екрив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васкулар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иброз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кив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обичаје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јали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скавиц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n1266"/>
          <p:cNvPicPr/>
          <p:nvPr/>
        </p:nvPicPr>
        <p:blipFill>
          <a:blip r:embed="rId1"/>
          <a:srcRect l="0" t="8919" r="0" b="3616"/>
          <a:stretch/>
        </p:blipFill>
        <p:spPr>
          <a:xfrm>
            <a:off x="4211640" y="1197000"/>
            <a:ext cx="4176720" cy="238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rcRect l="0" t="29007" r="42228" b="20591"/>
          <a:stretch/>
        </p:blipFill>
        <p:spPr>
          <a:xfrm>
            <a:off x="324000" y="1341360"/>
            <a:ext cx="46796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76720" y="160020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Кошта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ss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ib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lum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tic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ulum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ib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д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импанич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и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0" y="126828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скавичав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ризонт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ор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мпор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ндилар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итулу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Везив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ау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гамент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љ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ст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зи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утр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ив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ан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3051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Rectangle 12"/>
          <p:cNvSpPr/>
          <p:nvPr/>
        </p:nvSpPr>
        <p:spPr>
          <a:xfrm>
            <a:off x="611280" y="530064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мпактн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амел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нд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ртикуларн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уберкул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фос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етрозн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орус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кусти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ртикулацион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и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убин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јам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1767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пли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5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6-7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(6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дубо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8-9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492360" y="549360"/>
            <a:ext cx="5327640" cy="4005000"/>
            <a:chOff x="3492360" y="549360"/>
            <a:chExt cx="5327640" cy="4005000"/>
          </a:xfrm>
        </p:grpSpPr>
        <p:pic>
          <p:nvPicPr>
            <p:cNvPr id="84" name="Picture 4" descr=""/>
            <p:cNvPicPr/>
            <p:nvPr/>
          </p:nvPicPr>
          <p:blipFill>
            <a:blip r:embed="rId1"/>
            <a:srcRect l="6332" t="41028" r="47931" b="28585"/>
            <a:stretch/>
          </p:blipFill>
          <p:spPr>
            <a:xfrm>
              <a:off x="3492360" y="549360"/>
              <a:ext cx="5327640" cy="400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5" name="Line 5"/>
            <p:cNvSpPr/>
            <p:nvPr/>
          </p:nvSpPr>
          <p:spPr>
            <a:xfrm>
              <a:off x="3708360" y="2852640"/>
              <a:ext cx="39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5651640" y="1989000"/>
              <a:ext cx="0" cy="8636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Rectangle 8"/>
          <p:cNvSpPr/>
          <p:nvPr/>
        </p:nvSpPr>
        <p:spPr>
          <a:xfrm>
            <a:off x="3564000" y="486900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оризонтал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јниж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ачк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редин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рус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аку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јудаљениј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ачк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ов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7:08:22Z</dcterms:created>
  <dc:creator>Sony</dc:creator>
  <dc:description/>
  <dc:language>en-US</dc:language>
  <cp:lastModifiedBy>Milan Mijailovic</cp:lastModifiedBy>
  <dcterms:modified xsi:type="dcterms:W3CDTF">2024-08-29T09:22:11Z</dcterms:modified>
  <cp:revision>29</cp:revision>
  <dc:subject/>
  <dc:title>Radiologija temporomandibularnih zglobova</dc:title>
</cp:coreProperties>
</file>